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513-C691-4427-8B98-02089CB6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5D0-0769-4392-9DDC-201A423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BE9-3ECB-4B9A-9330-415387F6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4FB-C903-47BB-B3E5-AF331638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956-80B8-4C4C-865F-9211415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DE5-916E-4BD0-B0E6-A8C85553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226-9EF4-4790-AC17-4F2E7483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4B4-7A44-4AC2-8E4F-A7AFD165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69A-F9BB-4AE0-B4E8-32181CEF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0D8-21D7-403E-B75D-CDFAE31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8BB-2439-4B76-9E8E-4F067FA4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667-B549-41A4-B096-E5AFDF4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8AE1-85B6-4F7E-956F-22105B539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Molecule Transpo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em1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esi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5909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endocytosis and exocytosis,  substances are carried in small membrane bound sacs called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TP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590920"/>
            <a:ext cx="86104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lecule that provides the energy for the Na</a:t>
            </a:r>
            <a:r>
              <a:rPr b="0" lang="en-US" sz="41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K</a:t>
            </a:r>
            <a:r>
              <a:rPr b="0" lang="en-US" sz="41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ump to 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cytosi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5909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nocytosis is a kind of 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ocytosi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105520"/>
            <a:ext cx="75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YPERTONIC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entration outside is greater than inside c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133720"/>
            <a:ext cx="418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n example of a(n) ______________ solu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hyper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385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ypotonic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5909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placed in a ___________ solution,  water will enter an animal cell and it will get lar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smoly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2096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placed in a hypertonic solution plant cells will lose water and pull away from their cell wall. This is called ____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05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ter will enter &amp; it will get bigg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2590920"/>
            <a:ext cx="419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think will happen to this animal ce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hypo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73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SMOT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05740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sure exerted by water moving during osmosis is called _____________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410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ssi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057400"/>
            <a:ext cx="8991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cilitated diffusion is a kind of ____________ transp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33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creas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286000"/>
            <a:ext cx="58672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cell will ___________  in size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  decre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595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, hyp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hyper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Lif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3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257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cyto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1828800"/>
            <a:ext cx="3886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kind of transport where substances are taken into the cell by vesicles is call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944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4864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lucos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2209680"/>
            <a:ext cx="55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 example of a molecule that uses this kind of transport is 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1240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87692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ocyt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1676520"/>
            <a:ext cx="5333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lgi bodies pinch off membrane bound sacs called vesicles when they transport the molecules they package out of cells. This type of transport is called _______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990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5715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smoly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828800"/>
            <a:ext cx="94489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 are shopping in the grocery store and see their veggies have wilted from loss of water. This is an example of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tolysis      plasmolysis     diffusion       endocytos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724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erton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98108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lab you placed your egg in sugar water. The sugar water was a ____________ s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4876920"/>
            <a:ext cx="7543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od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odine + starch  produces a blue-black color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semi-permeable membrane lab, the inside of your membrane bag turned black because _________ entered the bag and reacted with the starch in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105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lucose, water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od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24382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of the molecules that was able to pass through the semi-permeable membrane in your lab experi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3434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was too large to fit throug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2096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tarch was unable to cros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ough the membrane in your lab experiment because 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13372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one of the kinds of passive transport you learned ab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3434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iffusion or Facilitated Diffusion (osmosis, carrier protein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n Channels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RU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7400"/>
            <a:ext cx="883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       or         Fals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ssive transport does NOT REQUIRE any ener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181480"/>
            <a:ext cx="7543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ALSE? 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y move from higher to 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981080"/>
            <a:ext cx="883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  OR   FAL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passive transport,  molecules always move from a region of lower concentration to a region of higher concentra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quilibr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057400"/>
            <a:ext cx="7620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ffusion continues until the concentration of molecules is equal throughout the space. This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657600"/>
            <a:ext cx="914400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usion - oxygen &amp;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smosis (facilitated diff. w/ aquaporins) - wate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cilitated diffusion w/ carriers - glucos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cilitated diffusion w/ion channels- C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+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C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N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K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9051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a molecule that moves by a kind of passive transport across membranes in cells and tell which kind of transport it 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343400"/>
            <a:ext cx="80773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docytosis, Exocytosis, Na</a:t>
            </a:r>
            <a:r>
              <a:rPr b="0" lang="en-US" sz="41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K</a:t>
            </a:r>
            <a:r>
              <a:rPr b="0" lang="en-US" sz="41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pump, proton pum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51460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one of the kinds of Active transport you learned ab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agocytosi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09680"/>
            <a:ext cx="761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ype of endocytosis in which large molecules or whole cells are taken into a cell is called _____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Becca Riedell</cp:lastModifiedBy>
  <dcterms:modified xsi:type="dcterms:W3CDTF">2008-08-11T19:43:50Z</dcterms:modified>
  <cp:revision>84</cp:revision>
  <dc:subject/>
  <dc:title>Semester 2</dc:title>
</cp:coreProperties>
</file>